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325E6-4290-4454-8779-0F23B009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9B8B8-0479-433E-B963-EAC55E87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E9330-FD5D-4026-9A11-437F1251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57CD2-6622-4382-B7F6-F40BD73E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AB2C-7AE4-4491-B953-C480FAEA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94D4-3ED9-45D9-8324-B9FC2383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6746-504B-4ECF-833C-23676E76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3DC8-7F84-45D0-AC56-339A9039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71A6-E8BF-4D94-82B0-2A13F005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43DF-C7D1-45F4-AE9B-A783D4B2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23E4-F405-45D4-A97A-EB23F8BB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9BA27-B9E5-4704-9E8C-D49167FA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0563-15BD-4257-AB0E-F734DE38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5BC9-86CB-425F-B10F-D7DD4230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8537-BF42-43F1-8E90-6335D716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3BD9-D3D5-449F-913D-FC75E1AD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0EA7-B238-46EE-8B8D-857D1739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9D85C-3715-4A15-8124-D4EFBDAF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54682-9C16-46A2-8F22-ED378486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F8AC6-CB29-49EB-AD59-D5C4A23F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8EBC4-1F1E-4F03-A4F6-98488F0A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1FE42-4C17-4623-9F2F-3DE935D4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CF1D1-B6C5-421D-A87D-9CB6BA8B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4B4E6-4787-4B8C-88A7-3A1AC8D2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0731-CF58-4A93-B09B-EB7878E52D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8938-B929-4109-98E1-A0EFEBD170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ff"/>
                </a:solidFill>
                <a:latin typeface="Arial"/>
              </a:rPr>
              <a:t>Me llamo _______               Clase 802</a:t>
            </a:r>
            <a:br>
              <a:rPr sz="3800"/>
            </a:br>
            <a:r>
              <a:rPr b="0" lang="en-US" sz="3800" spc="-1" strike="noStrike">
                <a:solidFill>
                  <a:srgbClr val="9999ff"/>
                </a:solidFill>
                <a:latin typeface="Arial"/>
              </a:rPr>
              <a:t>La fecha es el 30 de marzo del 20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Propósito # 66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comiste para el almuerz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92d050"/>
                </a:solidFill>
                <a:latin typeface="Arial"/>
              </a:rPr>
              <a:t>L.O: to learn the use &amp; form of preterite -ER/-I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Fuiste al cine durante el fin de sem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Miraste una pelic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pelicula miras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tipo de pelicula f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66"/>
                </a:solidFill>
                <a:latin typeface="Arial"/>
              </a:rPr>
              <a:t>El Pretérito de los verbos –ER, -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do usamos el preteri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verbos regulares que terminan en –ER/ -IR se conjugan de la siguiente 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-ER  / 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990099"/>
                </a:solidFill>
                <a:latin typeface="Arial"/>
              </a:rPr>
              <a:t>-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Ellas U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464280" y="3962520"/>
            <a:ext cx="84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-í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218760" y="4495680"/>
            <a:ext cx="834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-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417480" y="5029200"/>
            <a:ext cx="1035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-ió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23440" y="5562720"/>
            <a:ext cx="1485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-imos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269520" y="6095880"/>
            <a:ext cx="1553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-ieron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5826600" y="3962520"/>
            <a:ext cx="84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-í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654160" y="4495680"/>
            <a:ext cx="123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-iste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5779800" y="5029200"/>
            <a:ext cx="1035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-ió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5542920" y="5562720"/>
            <a:ext cx="1406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-imos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5539680" y="6095880"/>
            <a:ext cx="1553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-ieron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1087560" y="1752480"/>
            <a:ext cx="658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Verdana"/>
              </a:rPr>
              <a:t>Usamos el pretérito para expresar una acción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Verdana"/>
              </a:rPr>
              <a:t>empezó y termino en el pasado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886200" y="1981080"/>
          <a:ext cx="4800600" cy="423720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</a:tblGrid>
              <a:tr h="648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sist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o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Rectangle 3"/>
          <p:cNvSpPr/>
          <p:nvPr/>
        </p:nvSpPr>
        <p:spPr>
          <a:xfrm>
            <a:off x="380880" y="1981080"/>
            <a:ext cx="3581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ga lo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st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os verbo ‘DAR’ y ‘VER’ en el Preter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eterito de los verbos DA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give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V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se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conjugan igual que los verbos que terminan en –ER/-IR pero SIN ACEN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                   </a:t>
            </a: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Dar         /        </a:t>
            </a:r>
            <a:r>
              <a:rPr b="1" lang="es-ES_tradnl" sz="3200" spc="-1" strike="noStrike">
                <a:solidFill>
                  <a:srgbClr val="990099"/>
                </a:solidFill>
                <a:latin typeface="Arial"/>
              </a:rPr>
              <a:t>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Ellas U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975480" y="3809880"/>
            <a:ext cx="49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784320" y="4343400"/>
            <a:ext cx="962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D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841200" y="4800600"/>
            <a:ext cx="688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715560" y="5334120"/>
            <a:ext cx="1137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D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639240" y="5943600"/>
            <a:ext cx="120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D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570360" y="3809880"/>
            <a:ext cx="471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6379200" y="4343400"/>
            <a:ext cx="935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V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6512400" y="4800600"/>
            <a:ext cx="660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V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6310800" y="5334120"/>
            <a:ext cx="1110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V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6386760" y="5943600"/>
            <a:ext cx="1179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V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88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8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Z 1/2: Capitulo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Study all vocabulary on p.266-2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808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33520" y="2666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area 6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9:28:00Z</dcterms:created>
  <dc:creator>Helen Zumaeta</dc:creator>
  <dc:description/>
  <dc:language>en-US</dc:language>
  <cp:lastModifiedBy>Helen Zumaeta</cp:lastModifiedBy>
  <cp:lastPrinted>2016-04-06T20:11:56Z</cp:lastPrinted>
  <dcterms:modified xsi:type="dcterms:W3CDTF">2017-03-30T19:24:27Z</dcterms:modified>
  <cp:revision>20</cp:revision>
  <dc:subject/>
  <dc:title>Me llamo _______               Clase 8 im La fecha es el 6 de diciembre del 2012</dc:title>
</cp:coreProperties>
</file>